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E88-2EE4-45D2-A0CE-C7C99AC1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024-E810-4648-8822-74BD625D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E98-B511-4DDA-9A4B-CA32F3CD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841-F77F-44A5-BB7F-A4B2B826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A654-7D54-4E9E-BA12-459C14B8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671D-D950-4512-BD02-49092D28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813E-6F86-444E-9AC0-7CDF005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C33F-7227-494B-AA11-55CDA0FF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E996-0598-4384-B373-48A5CCEC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ACE0-660D-4A47-93D7-8E7171F5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A2A7-A590-4D5D-9C69-D19AB92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437-AB52-4D61-9CB6-AD95AB24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78BF-159D-4221-9426-B59587B2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731B-4E88-40C2-AB90-5EA09D49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F160-B45F-49E9-9D36-3E6429B1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6E94-4411-40A6-A091-4D695FFD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8813-AE10-49AF-BF9B-25057589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E87-3EC3-42CA-AFE6-F4E227F2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66D-D1CE-4EE0-9CF5-F10A047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E21-6BA1-4228-A584-FFD30AF4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3F2-F0F0-41E2-9E8C-BA5A0B2D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246-5427-407D-8581-F661E9FB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4D4-FA46-43A9-BA45-46CA764C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A46-D1F4-4896-A0C1-FD3E28F1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7585-6FF1-436B-92FE-49AA49D42F4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BDC-B87E-45B0-8D2A-E3109D421E8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445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Также в балладах рассказывалось, что Робин стал разбойником из-за того, что оказался вне закона. Поэтому учёные стали пересматривать архивы с документами, в которых вёлся учёт ставших вне закона людей. И нашли целый список различных Гудов, Гоутов, Хоутов и других подобных имён, причём у всех у них была различная судьба. Учёные пришли к выводу, что люди, ставшие вне закона, нередко называли себя Робин Гудами, и это навлекло ещё одну преграду перед разгадкой. Тогда ученые попытались выяснить, кем он был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0560" y="5733720"/>
            <a:ext cx="352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Робин Гуд умирает. Он завеща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похоронить себя там, где упадет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его последняя стрел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95640" y="2204640"/>
            <a:ext cx="361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простолюдином или графом. Вне закона мог оказаться и тот, и другой. Нередко упоминалось, что Робин Гуд принадлежал к роду Хантингтонов. Их замок стоит и по сей день, у него даже есть хозяин. Но прямых доказательств, что Робин принадлежал именно к этому роду, нет. Ничего не добившись, учёные переключились на поиски легендарной могилы Робин Гуда. По легенде он был захоронен в том месте, где упала его последняя стрела, выпущенная из окна Кирклейского аббатства</a:t>
            </a:r>
            <a:r>
              <a:rPr b="0" lang="en-US" sz="1800" spc="-1" strike="noStrike">
                <a:solidFill>
                  <a:srgbClr val="2f1311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352728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723920"/>
            <a:ext cx="338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Первая встреча Робина с Малышом Джоном.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76720" y="333000"/>
            <a:ext cx="424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Если судьба Робин Гуда затянута пеленой, то с его самыми близкими друзьями оказалось несколько проще. Самый известный из них – Маленький Джон. Его происхождение неизвестно, но в балладах его называют самым верным другом Робина. Известно, что они вместе прошли через многие приключения и всегда помогали друг другу. При раскопках предполагаемой могилы Маленького Джона был обнаружен скелет очень рослого человека, а в балладах говорилось, что Маленький Джон был очень высок и могуч. Таким образом, его существование было очень вероятно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43480" y="5157720"/>
            <a:ext cx="196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11280" y="60213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Могила Малыша Джона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43000" cy="4221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20890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5084640"/>
            <a:ext cx="316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Bookman Old Style"/>
              </a:rPr>
              <a:t>Робин переправляется через реку, сидя у монаха Тука на спине.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71600" y="404640"/>
          <a:ext cx="3174840" cy="44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4640"/>
                    <a:ext cx="317484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95640" y="404640"/>
            <a:ext cx="3618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Другие три известных героя – Скарлетт, Скателог, Стетли, все трое –  Вильямы. Из-за схожести их имён было много путаницы. Но существование Скарлетта уже установлено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Одним из самых любимых персонажей современных писателей о Робин Гуде является монах Тук. Но его существование, как друга Робин Гуда, было мало вероятно, так как нет абсолютно никаких данных о нём в древних балладах. Известно, что был некий беглый монах Тук, грабивший всех без разбора и славившийся своей жестокостью. Но твёрдо установили, что он жил на век после банды Робин Гуд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6092640"/>
            <a:ext cx="2376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Робин Гуд и Мэриан.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00360" y="1268280"/>
            <a:ext cx="49845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Ещё с современных произведениях любят упоминать девицу Мэриан, в которую влюбился Робин Гуд, и которая  сама полюбила Робин Гуда и ушла за ним в леса. Но она появилась в балладах намного позже остальных героев. Скорее всего её появлению служит совсем другая история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Bookman Old Style"/>
              </a:rPr>
              <a:t>	</a:t>
            </a: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Двенадцать месяцев в году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	</a:t>
            </a: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Двенадцать, так и знай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	</a:t>
            </a: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Но веселее всех в год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	</a:t>
            </a: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Весёлый месяц май.</a:t>
            </a:r>
            <a:r>
              <a:rPr b="0" lang="en-US" sz="1400" spc="-1" strike="noStrike">
                <a:solidFill>
                  <a:srgbClr val="2f1311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Месяц май играет большую роль в этой легенде. Светлый майский день – день, в который отдыхали и веселились крестьяне во всех деревнях. Также этот день называют днём Робин Гуда. В этот день юноши уходили в лес и соревновались в стрельбе из лука. Победивший выбирал “даму сердца” из пришедших посмотреть соревнование девушек. Очень может быть, что одной из таких девушек была Мэриан, которую позже приписали в красивую легенд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9120" y="352440"/>
            <a:ext cx="657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260280"/>
            <a:ext cx="720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     </a:t>
            </a: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Были ещё мельник и его сын Мач, вступившие в банду Робин Гуда. Современные писатели представляют сына мельника пятнадцатилетним юношей, однако в древних источниках его описывали как большого и сильного мужчину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2384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7386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Bookman Old Style"/>
              </a:rPr>
              <a:t>Во все века и годы легенду приукрашивали и переделывали. Например,  в балладах очень красиво описывали смерть Робин Гуда, но настоящая причина смерти неизвестн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7d47d"/>
                </a:solidFill>
                <a:latin typeface="Bookman Old Style"/>
              </a:rPr>
              <a:t>Таким образом, легенду каждый раз придумывает наше сердце. Каждый раз по-новому. Для нас не всегда важно, правдива легенда или нет. Просто маленький кусочек этого мира навсегда остаётся в наших сердца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2600" y="6141960"/>
            <a:ext cx="40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0b854"/>
                </a:solidFill>
                <a:latin typeface="Bookman Old Style"/>
              </a:rPr>
              <a:t>Художник</a:t>
            </a:r>
            <a:r>
              <a:rPr b="0" i="1" lang="en-US" sz="1000" spc="-1" strike="noStrike">
                <a:solidFill>
                  <a:srgbClr val="f0b854"/>
                </a:solidFill>
                <a:latin typeface="Bookman Old Style"/>
              </a:rPr>
              <a:t>: Moonshadow; http://moonshade.ucoz.ua/photo/10-0-598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843280" y="2852640"/>
            <a:ext cx="2428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Bookman Old Style"/>
              </a:rPr>
              <a:t>Робин Гуд и его друзья в разные век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1773360"/>
            <a:ext cx="28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Регистрационная запись о Робин Гуде 1225 год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4941720"/>
            <a:ext cx="345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Иллюстрация к изданию Wynkyn de Worde, опубликованному между 1492-1534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5373720"/>
            <a:ext cx="32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Гравюра на дереве «Робин Гуд» 1508 го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2592360" cy="626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3097080" cy="2575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067280" y="1052640"/>
            <a:ext cx="3149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24360" y="5013360"/>
            <a:ext cx="324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Картина «Робин Гуд и его друзья» Даниэля Маклиза, английского живописца, 1845 г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66100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Иллюстрация к изданию Martin Parker, 1687 г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3301920" cy="5042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780000" y="404640"/>
            <a:ext cx="3725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5084640"/>
            <a:ext cx="30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Говард Пайл. Весёлые приключения славного Робин Гуда в Ноттингемшире. НьюЙорк: Издательство: Charles Scribner's Sons, 1883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508464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7d47d"/>
                </a:solidFill>
                <a:latin typeface="Bookman Old Style"/>
              </a:rPr>
              <a:t>Джордж Уортон Эдвардс. </a:t>
            </a: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“</a:t>
            </a:r>
            <a:r>
              <a:rPr b="0" i="1" lang="ru-RU" sz="1400" spc="-1" strike="noStrike">
                <a:solidFill>
                  <a:srgbClr val="f7d47d"/>
                </a:solidFill>
                <a:latin typeface="Bookman Old Style"/>
              </a:rPr>
              <a:t>Робин Гуд и Гай Гисборн</a:t>
            </a: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”. </a:t>
            </a:r>
            <a:r>
              <a:rPr b="0" i="1" lang="ru-RU" sz="1400" spc="-1" strike="noStrike">
                <a:solidFill>
                  <a:srgbClr val="f7d47d"/>
                </a:solidFill>
                <a:latin typeface="Bookman Old Style"/>
              </a:rPr>
              <a:t>Книга английских баллад. НьюЙорк: Издательство: The Macmillan Company, 1896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157560" cy="4437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28573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Bookman Old Style"/>
              </a:rPr>
              <a:t>Робин Гуд в произведениях писателей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00" y="364500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Ирина Токмакова,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«Робин Гуд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55897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М. А. Гершензон,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«Робин Гуд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364500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Анна Овчинникова, «Друг и лейтенант Робина Гуд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2720" y="5013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558972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Леонид Филатов «Большая любовь Робин Гуд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1773360" cy="2592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1787760" cy="2592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924360" y="981000"/>
            <a:ext cx="1766880" cy="2664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796000" y="2924280"/>
            <a:ext cx="1733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95280" y="2924280"/>
            <a:ext cx="22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Софья Радзиевская, «Тысячелетняя ночь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2924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Пересказ Е. Чудиновой, «Робин Гуд»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64000" y="2924280"/>
            <a:ext cx="18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Елена Хаецкая, «Меч и радуга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6093000"/>
            <a:ext cx="223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7d47d"/>
                </a:solidFill>
                <a:latin typeface="Bookman Old Style"/>
              </a:rPr>
              <a:t>Пересказ А. Блейз, «Легенда о Робин Гуде»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3640" y="3860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16360" y="609300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Александр Дюма, «Робин Гуд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92720" y="378936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92720" y="6093000"/>
            <a:ext cx="23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7d47d"/>
                </a:solidFill>
                <a:latin typeface="Bookman Old Style"/>
              </a:rPr>
              <a:t>Вальтер Скотт, «Айвенго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2050920" cy="25923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435640" y="260280"/>
            <a:ext cx="1612800" cy="2586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1871640" cy="2592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2987640" y="3500280"/>
            <a:ext cx="1666800" cy="2592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5292720" y="3500280"/>
            <a:ext cx="19605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757548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f2a"/>
                </a:solidFill>
                <a:latin typeface="Bookman Old Style"/>
              </a:rPr>
              <a:t>Что такое легенда?</a:t>
            </a:r>
            <a:r>
              <a:rPr b="0" lang="ru-RU" sz="2800" spc="-1" strike="noStrike">
                <a:solidFill>
                  <a:srgbClr val="742f2a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f2a"/>
                </a:solidFill>
                <a:latin typeface="Bookman Old Style"/>
              </a:rPr>
              <a:t>Правда и вымысел в легендах, искажения легенд со времен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f2a"/>
                </a:solidFill>
                <a:latin typeface="Bookman Old Style"/>
              </a:rPr>
              <a:t>Что так привлекает нас в легендах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f2a"/>
                </a:solidFill>
                <a:latin typeface="Bookman Old Style"/>
              </a:rPr>
              <a:t>Анализ исторической жизни легенд о Робин Гуд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42f2a"/>
                </a:solidFill>
                <a:latin typeface="Bookman Old Style"/>
              </a:rPr>
              <a:t>Заключ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40360" y="5661000"/>
            <a:ext cx="3527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7d47d"/>
                </a:solidFill>
                <a:latin typeface="Bookman Old Style"/>
              </a:rPr>
              <a:t>Менестрель</a:t>
            </a:r>
            <a:br>
              <a:rPr sz="1600"/>
            </a:br>
            <a:r>
              <a:rPr b="0" i="1" lang="ru-RU" sz="1000" spc="-1" strike="noStrike">
                <a:solidFill>
                  <a:srgbClr val="f7d47d"/>
                </a:solidFill>
                <a:latin typeface="Bookman Old Style"/>
              </a:rPr>
              <a:t>Художник</a:t>
            </a:r>
            <a:r>
              <a:rPr b="0" i="1" lang="en-US" sz="1000" spc="-1" strike="noStrike">
                <a:solidFill>
                  <a:srgbClr val="f7d47d"/>
                </a:solidFill>
                <a:latin typeface="Bookman Old Style"/>
              </a:rPr>
              <a:t>: Adele S.; http://meadowhaven.net</a:t>
            </a:r>
            <a:br>
              <a:rPr sz="1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160" y="476280"/>
            <a:ext cx="36162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Легенды. Они появились давно, этому жанру невозможно дать точное определение, но они были и есть. Они, как обрывки, осколки того мира и времени, которое нам вряд ли удастся когда-нибудь полностью постичь. Они, как драгоценные доисторические камни, как неповторимые кусочки памяти, оставленные нам великими деяниями и историей, и имеющие огромную ценность в настоящем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Легенды стали легендами не сразу. Первоначально они были небольшими историями или балладами, которые рассказывали или пели бродячие сказители, менестрели, певцы, гимлены народу, нуждающемуся в моральной поддержке и жаждущему интересных рассказов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284720" y="836640"/>
            <a:ext cx="329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5516280"/>
            <a:ext cx="40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7d47d"/>
                </a:solidFill>
                <a:latin typeface="Bookman Old Style"/>
              </a:rPr>
              <a:t>Рисунок к кельтской легенде религиозно-героического типа.</a:t>
            </a:r>
            <a:br>
              <a:rPr sz="1600"/>
            </a:br>
            <a:br>
              <a:rPr sz="1600"/>
            </a:br>
            <a:r>
              <a:rPr b="0" i="1" lang="ru-RU" sz="1000" spc="-1" strike="noStrike">
                <a:solidFill>
                  <a:srgbClr val="f7d47d"/>
                </a:solidFill>
                <a:latin typeface="Bookman Old Style"/>
              </a:rPr>
              <a:t>Художник</a:t>
            </a:r>
            <a:r>
              <a:rPr b="0" i="1" lang="en-US" sz="1000" spc="-1" strike="noStrike">
                <a:solidFill>
                  <a:srgbClr val="f7d47d"/>
                </a:solidFill>
                <a:latin typeface="Bookman Old Style"/>
              </a:rPr>
              <a:t>:</a:t>
            </a:r>
            <a:r>
              <a:rPr b="0" i="1" lang="ru-RU" sz="1000" spc="-1" strike="noStrike">
                <a:solidFill>
                  <a:srgbClr val="f7d47d"/>
                </a:solidFill>
                <a:latin typeface="Bookman Old Style"/>
              </a:rPr>
              <a:t> Джим Фицпатрик</a:t>
            </a:r>
            <a:endParaRPr b="0" lang="en-US" sz="1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32000" y="404280"/>
            <a:ext cx="36176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Легенды делятся в основном на две группы: религиозные и социальные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Религиозные легенды были героического типа, например, “Беовульф”, но было много и таких легенд, с помощью которых церковь пыталась установить своё влияние на людей различных сословий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Социальные легенды были признаны и любимы народом, так как в них рассказывалось о борьбе с несправедливостью, социальными различиями. Одни из самых известных и любимых социальных легенд – “Тристан и Изольда”, “Робин Гуд”. Такие легенды были основаны на реальных исторических событиях с, возможно, реальными героями. Герои социальных легенд – это действительно были народные геро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50920" y="549360"/>
            <a:ext cx="360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7386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Так как легенды живут века, то они со временем меняются, дополняются новыми событиями, могла измениться даже трактовка легенды. В наше время отличить правду от вымысла во многих легендах практически невозможно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В древние века и в средние века религиозные деятели часто сильно искажали легенды для достижения политических целей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Позднее свою роль сыграли авторы художественной литературы и художественных фильмов, использующие легенды в своих произведениях. Для них представился великолепный случай изложить легенду в новом свете, добавить новые происшествия, изменить характер героев.</a:t>
            </a:r>
            <a:r>
              <a:rPr b="0" lang="en-US" sz="1800" spc="-1" strike="noStrike">
                <a:solidFill>
                  <a:srgbClr val="2f1311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Были случаи, когда некоторые учёные, соревнуясь в погоне за самым лёгким ответом на сложный вопрос, пытались поменять мнение о легенде: поменять смысл легенды, хорошее объяснить как плохое и т. д.  Такое обращение с легендой может привести к ещё более худшей её кончине, чем просто забвение.</a:t>
            </a:r>
            <a:r>
              <a:rPr b="0" lang="en-US" sz="1800" spc="-1" strike="noStrike">
                <a:solidFill>
                  <a:srgbClr val="2f1311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7386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Однако учёные пытаются докопаться до сокровенной правды. Они просматривают архивы с документами, перечитывают летописи, проводят раскопки. Но кроме трудов учёных судьба легенды находится в руках народа. Если в народе будут относиться к легенде с таким же восхищением и интересом, как много веков назад, то легенда сохранит свой первоначальный смыс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Конечно, больше всего в легендах нас привлекает идеальный образ героев, их честь, благородство, мужество. Не смотря на то, что во всех древних легендах присутствует довольно большая доля жестокости, обычная в те времена, эти качества всё равно остаются очень яркими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Также  в легендах привлекает нас то рвение, с которым герои борются против несправедливости, сражаются за правое дело. Хороших героев часто  старались оделить красивой внешностью, силой, что так же располагало к себе слушателей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6165360"/>
            <a:ext cx="72738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7d47d"/>
                </a:solidFill>
                <a:latin typeface="Bookman Old Style"/>
              </a:rPr>
              <a:t>Мифические существа в легендах.</a:t>
            </a: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f7d47d"/>
                </a:solidFill>
                <a:latin typeface="Bookman Old Style"/>
              </a:rPr>
              <a:t>Художники</a:t>
            </a:r>
            <a:r>
              <a:rPr b="0" i="1" lang="en-US" sz="1000" spc="-1" strike="noStrike">
                <a:solidFill>
                  <a:srgbClr val="f7d47d"/>
                </a:solidFill>
                <a:latin typeface="Bookman Old Style"/>
              </a:rPr>
              <a:t>: </a:t>
            </a:r>
            <a:r>
              <a:rPr b="0" i="1" lang="ru-RU" sz="1000" spc="-1" strike="noStrike">
                <a:solidFill>
                  <a:srgbClr val="f7d47d"/>
                </a:solidFill>
                <a:latin typeface="Bookman Old Style"/>
              </a:rPr>
              <a:t>РаВенна, Танитаэль</a:t>
            </a:r>
            <a:r>
              <a:rPr b="0" i="1" lang="en-US" sz="1000" spc="-1" strike="noStrike">
                <a:solidFill>
                  <a:srgbClr val="f7d47d"/>
                </a:solidFill>
                <a:latin typeface="Bookman Old Style"/>
              </a:rPr>
              <a:t>; http://dreamworld.ru</a:t>
            </a:r>
            <a:endParaRPr b="0" lang="en-US" sz="1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7200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Ещё очень красиво в легендах смотрятся мифические существа, такие как феи, драконы, эльфы, лесные духи, прекрасные русалки, коварные колдуны. Многие легенды рассказывали в виде баллад. Этот красивый певучий стиль сразу привлекает желающих послушать интересные и красивые истори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Кроме того, в легендах отражаются исторические события, дух той эпохи, к которой они принадлежат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55640" y="2565360"/>
            <a:ext cx="3384720" cy="3282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356000" y="3213000"/>
            <a:ext cx="31003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Для примера рассмотрим английскую легенду о </a:t>
            </a:r>
            <a:r>
              <a:rPr b="0" lang="en-US" sz="2000" spc="-1" strike="noStrike">
                <a:solidFill>
                  <a:srgbClr val="f7d47d"/>
                </a:solidFill>
                <a:latin typeface="Bookman Old Style"/>
              </a:rPr>
              <a:t>Робин Гуде</a:t>
            </a: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, историю её возникновения и жизни, её героев, её роль в истории и её современное значение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Иные поют о зелёной трав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Другие про белый лё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А третьи поют про тебя, Робин Гуд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7d47d"/>
                </a:solidFill>
                <a:latin typeface="Bookman Old Style"/>
              </a:rPr>
              <a:t>Не ведая, где ты рождё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                                     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(перевод С. Маршака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Робин Гуд – герой английских баллад, живая легенда. Практически каждый человек знает его имя. “Но путь не близок от легенды до концессий и аренды”,  – писал Джон Китс. Мы представляем Робин Гуда примерно так, как описал его Вальтер Скотт в романе “Айвенго”, благородным разбойником, грабившим только богатых, великолепным стрелком, ловким, красивым, отважным. Однако настоящая история скрыта листопадом многих лет. И разобраться в путанице очень тяжело. Учёные уже давно пытаются докопаться до правды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Bookman Old Style"/>
              </a:rPr>
              <a:t>Посмотрим, чего они достигли. Первая и самая загадочная задача, которая встала перед учёными, – существовал ли на самом деле Робин Гуд. Первым делом взор учёных был обращен к балладам, которые считали относительно древними (Х</a:t>
            </a: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II</a:t>
            </a:r>
            <a:r>
              <a:rPr b="0" lang="ru-RU" sz="1600" spc="-1" strike="noStrike">
                <a:solidFill>
                  <a:srgbClr val="2f1311"/>
                </a:solidFill>
                <a:latin typeface="Bookman Old Style"/>
              </a:rPr>
              <a:t>-Х</a:t>
            </a: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III</a:t>
            </a:r>
            <a:r>
              <a:rPr b="0" lang="ru-RU" sz="1600" spc="-1" strike="noStrike">
                <a:solidFill>
                  <a:srgbClr val="2f1311"/>
                </a:solidFill>
                <a:latin typeface="Bookman Old Style"/>
              </a:rPr>
              <a:t> вв.). В них также рассказывалось, что – Робин Гуд – отважный разбойник,</a:t>
            </a:r>
            <a:r>
              <a:rPr b="0" lang="ru-RU" sz="1600" spc="-1" strike="noStrike">
                <a:solidFill>
                  <a:srgbClr val="f7d47d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Bookman Old Style"/>
              </a:rPr>
              <a:t>грабивший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47640" y="1557360"/>
            <a:ext cx="4319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Bookman Old Style"/>
              </a:rPr>
              <a:t>богатых путников в Шервудском лесу и</a:t>
            </a:r>
            <a:r>
              <a:rPr b="0" lang="en-US" sz="1600" spc="-1" strike="noStrike">
                <a:solidFill>
                  <a:srgbClr val="2f1311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Bookman Old Style"/>
              </a:rPr>
              <a:t>раздававший награбленное бедным людям. Вероятно, именно это и привлекло английский народ и народ других стран к этому герою. В некоторых балладах говорится, что у Робин Гуда была преступная группировка, состоящая из около ста человек. Но достаточно ясные сведения остались лишь о немногих его друзьях. Все они были борцами против норманов, завоевавших саксонские государства. Саксы  ненавидели норманов, и это способствовало ещё большему расположению и любви народа к баллад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9840" y="6165720"/>
            <a:ext cx="116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0b854"/>
                </a:solidFill>
                <a:latin typeface="Bookman Old Style"/>
              </a:rPr>
              <a:t>Художник Л. Рид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6906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6:55:11Z</dcterms:created>
  <dc:creator>Tony</dc:creator>
  <dc:description/>
  <dc:language>en-US</dc:language>
  <cp:lastModifiedBy>OFFICE</cp:lastModifiedBy>
  <dcterms:modified xsi:type="dcterms:W3CDTF">2011-01-13T08:31:29Z</dcterms:modified>
  <cp:revision>76</cp:revision>
  <dc:subject/>
  <dc:title>Л Е Г Е Н Д Ы</dc:title>
</cp:coreProperties>
</file>